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8F8-F1E4-4922-9F2B-60D5D568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D55-4D00-4FB4-B4BE-6A3B3774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7D9-386A-42F9-B611-CC6CEF2E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648-5E0F-44A0-9419-B5484CC8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F45-FF95-4EEE-930B-AFB23954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8F9-D4F9-4E4B-93C4-9D3F136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F32-A70B-43B1-9B65-D97252B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B2F-77AC-4D64-BE2C-C1478FE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0A0-8EFD-47A1-A1CE-B6EF9FEF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DE6-3652-4877-9F8C-3FA74A77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5B4-1112-459E-B3FB-86C54BD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8EC-5A10-470C-9DCB-CE5ABAA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1979-E4EA-41F9-A097-5556C676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Slope Form and Writing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Point-Slop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895480"/>
            <a:ext cx="708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–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6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X –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286000"/>
            <a:ext cx="6172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f the 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of th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 7)   (1, 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 -8)    (-2,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4270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8120" y="1447920"/>
            <a:ext cx="3994200" cy="166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971800" y="3505320"/>
            <a:ext cx="5867280" cy="277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124080" y="3962520"/>
            <a:ext cx="533412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6095880" cy="816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1733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6019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631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09480"/>
            <a:ext cx="7010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-2/3    (-2, 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3   (2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3152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¾     (-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-2   (3, 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7467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f the 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of th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-6, b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,  b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  (-6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-2  (-2, 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830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2590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equation of the line containing the points (-2, 6) and (4,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35812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572000" cy="116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5257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ep 4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 the equation in standard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33:43Z</dcterms:created>
  <dc:creator>Susannah Graham</dc:creator>
  <dc:description/>
  <dc:language>en-US</dc:language>
  <cp:lastModifiedBy>BRSD</cp:lastModifiedBy>
  <dcterms:modified xsi:type="dcterms:W3CDTF">2010-03-02T14:20:55Z</dcterms:modified>
  <cp:revision>9</cp:revision>
  <dc:subject/>
  <dc:title>Lesson 6.4 Point-Slope Form and Writing Equations</dc:title>
</cp:coreProperties>
</file>